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C619-034B-486D-9322-CAF304F1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AB32-4011-42D2-894D-54B2BF332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05B-E564-4342-841D-10114D43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646-6A2F-4B87-9C90-9D23E62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F45-E637-4928-964C-560FC48A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1FE-F333-41C0-AF0D-11B4B9C5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6B0-666C-4DC2-B982-B2BFC460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055-4A3D-4ED7-8D84-FC033E4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872-A1AF-4925-9244-F17FB3CA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7FE-CCA4-4B4E-B310-9579D22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BA6-E6E5-4E63-B090-3B3D554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09E-F57A-4686-A8E5-C9DF818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AFA-5C8A-47E2-9700-6B91AB1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013-AE74-40A0-BF91-C98108B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5D4-1DEE-4693-BF4E-765C8F11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ubar.bednarova.sweb.cz/bond.htm" TargetMode="External"/><Relationship Id="rId2" Type="http://schemas.openxmlformats.org/officeDocument/2006/relationships/hyperlink" Target="http://zubar.bednarova.sweb.cz/bond.htm" TargetMode="External"/><Relationship Id="rId3" Type="http://schemas.openxmlformats.org/officeDocument/2006/relationships/hyperlink" Target="http://zubar.bednarova.sweb.cz/bond.htm" TargetMode="External"/><Relationship Id="rId4" Type="http://schemas.openxmlformats.org/officeDocument/2006/relationships/hyperlink" Target="http://zubar.bednarova.sweb.cz/bond.htm" TargetMode="External"/><Relationship Id="rId5" Type="http://schemas.openxmlformats.org/officeDocument/2006/relationships/hyperlink" Target="http://zubar.bednarova.sweb.cz/bond.ht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13372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škol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zdělávací materiál: I. třída – Snímatelný můst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materiálu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_32_INOVACE_ZSP.4.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um tvorby: 3. 11.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r. Martina N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ac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zdělávací materiál využívá ICT při výuce a tím inovuje výuku praktického vyučování, zároveň motivuje a aktivuje žáky. Seznamuje žáky s indikací snímatelného můstk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4032360" cy="10112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eef4"/>
                </a:solidFill>
                <a:latin typeface="Calibri"/>
              </a:rPr>
              <a:t>I. tří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Snímatelný můste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Calibri"/>
              </a:rPr>
              <a:t>Snímatelný můstek-chrup s mezera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zera je ohraničena vlastními zu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ekt 2-3 zub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ýhod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adná hygi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výhod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áhrada je převážně zhotovena z důvodu nedostatku finančních prostředků pacient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zhotovení složitější náhrady může bránit i vážný stav pacienta.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Konstrukčn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Kotevní prv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pěrné spony, zásuvné spoje a šrou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pojovací prv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 třmeny, případně redukované de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edukované tě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bo sedlo náhra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nos žvýkacího tlaku –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NTÁL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bní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hrada musí být zkonstruována tak, aby bylo pokud možno bráněno usazování povlaků na krčcích zubů a mechanickému opotřebování povrchu zubů náhrad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á je estetika náhrady, neboť má na pacienta psychologický úči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á je také funkčnost při žvýkání a řeč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třeba zajistit spolehlivé a pevné držení náhrady v ústech jak při funkci, tak v kli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ímatelný můs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Chalupna\Desktop\partial.jpg"/>
          <p:cNvPicPr/>
          <p:nvPr/>
        </p:nvPicPr>
        <p:blipFill>
          <a:blip r:embed="rId1"/>
          <a:stretch/>
        </p:blipFill>
        <p:spPr>
          <a:xfrm>
            <a:off x="1258920" y="1700280"/>
            <a:ext cx="2925720" cy="21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Chalupna\Desktop\CEKA-15.jpg"/>
          <p:cNvPicPr/>
          <p:nvPr/>
        </p:nvPicPr>
        <p:blipFill>
          <a:blip r:embed="rId2"/>
          <a:stretch/>
        </p:blipFill>
        <p:spPr>
          <a:xfrm>
            <a:off x="5076720" y="1700280"/>
            <a:ext cx="3168720" cy="206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295272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3384720" cy="242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8760" y="19162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34760" y="1843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7120" y="42908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7840" y="4219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roje obráz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1: DOSTÁLOVÁ, T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str. 113. 1. vyd. Praha: Grada, 2004. ISBN 80-247-0655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2: COX H. CH,  BOND W. K.Cox/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Bond Dental Group. Co je částečná zubní náhrada?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[online]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[cit.3.10.2013]. Dostupné z www:&lt;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zubar.bednarova.sweb.cz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bond.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&gt; autor neuved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3, 4: Fotografie zhotovila, není-li uvedeno jinak, Mgr. Hana Chalup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droje tex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STÁLOVÁ, T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1. vyd. Praha: Grada, 2004. ISBN 80-247-0655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HOHMANN A. a W. HIELSCHER. Konstrukce částečných snímatelných náhrad ve stomatlogii. 1. vyd. Praha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da, 1998. ISBN 80-7169-217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1-18T19:03:54Z</dcterms:modified>
  <cp:revision>70</cp:revision>
  <dc:subject/>
  <dc:title>Snímek 1</dc:title>
</cp:coreProperties>
</file>